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402-F80D-4C04-A8EF-864A7169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E3C-14EA-4896-A8FA-FD9AC624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EB5-1281-40D7-A39F-84607819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2E0-2754-43CA-A114-9E51AD5E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8766-B742-4217-82CB-17BB0302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EDF-EEA3-4DB1-83C1-21D4339F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4DC5-FDBB-4562-A8A2-0453D8BB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0A6-5281-4879-AE1A-6DC0CB76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44AF-E304-4A2B-97AA-84645F44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C6EF-C819-4008-A3A2-BF9DB83B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22FA-8897-44FF-8135-04535B9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2DC-E03B-4D3A-9FD8-583295CD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5A54-4BFA-4E76-97F5-418B16B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13E-BCD0-46FF-9A23-A4C5839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9F02-F578-451E-9597-F449A986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BBEC-1112-491B-8ACC-ED2D4503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9C37-8F4D-4E67-B6D5-DCF2BC0D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D5F-9435-4B62-B07F-D44DC07F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131-391F-4893-AD06-91DE2EE1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E1B-715D-4A52-89DB-D819B0E4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B5B-CD2E-4FA0-AE4C-3081755C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D52-528B-4911-B077-6286F8CF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D4B-0DB7-49B7-ABE7-B0E91F2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C13-72C6-430D-A2CA-8FF90B8B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4283-9303-44D3-AD88-A3B84A5A57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2A3-1396-4420-836D-C6F1853C9B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outh East Texas Fai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MT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tertainmen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22320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des to ride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mper c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2309760" cy="221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1800360" cy="154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2666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Favorite Foods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rimp on a st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ch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t do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mes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oting du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ke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ents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d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nster tru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se 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bu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ch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buzz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shir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26:47Z</dcterms:created>
  <dc:creator>762913</dc:creator>
  <dc:description/>
  <dc:language>en-US</dc:language>
  <cp:lastModifiedBy>762913</cp:lastModifiedBy>
  <dcterms:modified xsi:type="dcterms:W3CDTF">2009-03-18T16:20:14Z</dcterms:modified>
  <cp:revision>2</cp:revision>
  <dc:subject/>
  <dc:title>South East Texas Fair</dc:title>
</cp:coreProperties>
</file>